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20B40-5779-4EFF-80BC-709AFA61D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3A72-D97D-4828-9E40-A96718D0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B808E-BE0B-4CD6-91E9-21F05A34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90797-BDB7-466F-9882-3A12A8DB1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714AE-CF20-4241-A1D5-FF7F07525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F9756-E7B1-4B64-99FC-C84592C04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BB6FF-3B25-44F2-BB4A-4DB7BDF6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538A0-C729-4E3C-ADB9-2EEC4F9B4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97F79-D719-4DDB-8D8B-F48F70176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9CA46-1CF7-4C56-B52E-66B61963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27A9-A19E-4F57-8C94-DE26F568F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8B20-572F-49BB-A6AC-62DDB007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5E846-615A-4DED-89FA-B99D1108C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74617-BA44-4367-BCC5-00461D33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D5D01-2E25-4222-BC54-D8786098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AEAED-540C-444E-8605-1F639D871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A6C78-383D-4930-86E4-40D2E4AE7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BF41-A7F8-407A-A660-C587CB31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D6A2A-5E81-408C-A6EB-4EB1ABD80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3D85-0B51-4515-8E51-1DC0FAB1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5E01-BD49-445E-B5EA-3D46E1DC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A2A6-B1AD-41E3-917F-BDDFAEDF1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4BC9-8A20-47C1-9A3E-307D0D08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EEDA-091E-42FD-B619-FAA61F538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84C3-39A6-49B3-A0DD-AA7E610805E7}"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95C0-8B0D-41A0-9B89-CE8C920D53F2}"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2649240"/>
            <a:ext cx="7907400" cy="340668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6699"/>
                </a:solidFill>
                <a:latin typeface="Verdana"/>
              </a:rPr>
              <a:t>Financials</a:t>
            </a:r>
            <a:endParaRPr b="0" lang="en-US" sz="11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rtual Friend (VF) is planning to penetrate the market with the ultimate best technologies of all ages.  Competing with Garmin who averaged about 12millions sales in their GPS units for automotive.  Our expectation is to tap into  1/12 of that market share, with selling 1 millions uni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believe that we can reach this goal within a 3 year period, with obtaining 30% of our goal in the first yea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tart-up Requirements</a:t>
            </a: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172" name="" descr=""/>
          <p:cNvPicPr/>
          <p:nvPr/>
        </p:nvPicPr>
        <p:blipFill>
          <a:blip r:embed="rId1"/>
          <a:stretch/>
        </p:blipFill>
        <p:spPr>
          <a:xfrm>
            <a:off x="914400" y="129528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ales Forecast- 1</a:t>
            </a:r>
            <a:r>
              <a:rPr b="0" lang="en-US" sz="4000" spc="-1" strike="noStrike" baseline="30000">
                <a:solidFill>
                  <a:srgbClr val="006666"/>
                </a:solidFill>
                <a:latin typeface="Verdana"/>
              </a:rPr>
              <a:t>st</a:t>
            </a:r>
            <a:r>
              <a:rPr b="0" lang="en-US" sz="4000" spc="-1" strike="noStrike">
                <a:solidFill>
                  <a:srgbClr val="006666"/>
                </a:solidFill>
                <a:latin typeface="Verdana"/>
              </a:rPr>
              <a:t> Year</a:t>
            </a:r>
            <a:br>
              <a:rPr sz="4000"/>
            </a:br>
            <a:r>
              <a:rPr b="0" lang="en-US" sz="4000" spc="-1" strike="noStrike">
                <a:solidFill>
                  <a:srgbClr val="006666"/>
                </a:solidFill>
                <a:latin typeface="Verdana"/>
              </a:rPr>
              <a:t> </a:t>
            </a:r>
            <a:r>
              <a:rPr b="0" lang="en-US" sz="3400" spc="-1" strike="noStrike">
                <a:solidFill>
                  <a:srgbClr val="006666"/>
                </a:solidFill>
                <a:latin typeface="Verdana"/>
              </a:rPr>
              <a:t>VP</a:t>
            </a:r>
            <a:endParaRPr b="0" lang="en-US" sz="3400" spc="-1" strike="noStrike">
              <a:solidFill>
                <a:srgbClr val="006666"/>
              </a:solidFill>
              <a:latin typeface="Verdana"/>
            </a:endParaRPr>
          </a:p>
        </p:txBody>
      </p:sp>
      <p:pic>
        <p:nvPicPr>
          <p:cNvPr id="174" name="" descr=""/>
          <p:cNvPicPr/>
          <p:nvPr/>
        </p:nvPicPr>
        <p:blipFill>
          <a:blip r:embed="rId1"/>
          <a:stretch/>
        </p:blipFill>
        <p:spPr>
          <a:xfrm>
            <a:off x="457200" y="2209680"/>
            <a:ext cx="2971800" cy="838440"/>
          </a:xfrm>
          <a:prstGeom prst="rect">
            <a:avLst/>
          </a:prstGeom>
          <a:ln w="0">
            <a:noFill/>
          </a:ln>
        </p:spPr>
      </p:pic>
      <p:pic>
        <p:nvPicPr>
          <p:cNvPr id="175" name="" descr=""/>
          <p:cNvPicPr/>
          <p:nvPr/>
        </p:nvPicPr>
        <p:blipFill>
          <a:blip r:embed="rId2"/>
          <a:stretch/>
        </p:blipFill>
        <p:spPr>
          <a:xfrm>
            <a:off x="4114800" y="1828800"/>
            <a:ext cx="4368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32:15Z</dcterms:created>
  <dc:creator>Renee Lewis</dc:creator>
  <dc:description/>
  <dc:language>en-US</dc:language>
  <cp:lastModifiedBy>Allstate</cp:lastModifiedBy>
  <dcterms:modified xsi:type="dcterms:W3CDTF">2009-11-10T00:55:08Z</dcterms:modified>
  <cp:revision>38</cp:revision>
  <dc:subject/>
  <dc:title>Slide 1</dc:title>
</cp:coreProperties>
</file>